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C2DB-56E0-44D0-AD95-97A3B382C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40C5-4B2F-445C-852A-477774C6C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6868-8075-4B28-A5B4-AC4C447E0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99ED-4DC5-4AEE-8962-AC40EA42E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CE67-9E2B-4BE4-8BB6-BC0E3DDD3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1D6E-1A1B-404E-9218-8B0043B86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A7B2-86FD-4C94-9431-ECA841878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F545-724C-43EF-B01F-8C5830ED5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AF10-7D3F-4AA6-904C-A8008F3C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3783-72D4-4DC4-8746-E0872910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0ACA-EECB-40B5-8C2F-0613FB47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EBA7-889A-478A-BB67-59AF831E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6AA6C-8DBC-4227-8A9C-00178C87DA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17.xml"/><Relationship Id="rId7" Type="http://schemas.openxmlformats.org/officeDocument/2006/relationships/slide" Target="slide19.xml"/><Relationship Id="rId8" Type="http://schemas.openxmlformats.org/officeDocument/2006/relationships/slide" Target="slide21.xml"/><Relationship Id="rId9" Type="http://schemas.openxmlformats.org/officeDocument/2006/relationships/slide" Target="slide23.xml"/><Relationship Id="rId10" Type="http://schemas.openxmlformats.org/officeDocument/2006/relationships/slide" Target="slide25.xml"/><Relationship Id="rId11" Type="http://schemas.openxmlformats.org/officeDocument/2006/relationships/slide" Target="slide27.xml"/><Relationship Id="rId12" Type="http://schemas.openxmlformats.org/officeDocument/2006/relationships/slide" Target="slide29.xml"/><Relationship Id="rId13" Type="http://schemas.openxmlformats.org/officeDocument/2006/relationships/slide" Target="slide31.xml"/><Relationship Id="rId14" Type="http://schemas.openxmlformats.org/officeDocument/2006/relationships/slide" Target="slide33.xml"/><Relationship Id="rId15" Type="http://schemas.openxmlformats.org/officeDocument/2006/relationships/slide" Target="slide35.xml"/><Relationship Id="rId16" Type="http://schemas.openxmlformats.org/officeDocument/2006/relationships/slide" Target="slide38.xml"/><Relationship Id="rId17" Type="http://schemas.openxmlformats.org/officeDocument/2006/relationships/slide" Target="slide40.xml"/><Relationship Id="rId18" Type="http://schemas.openxmlformats.org/officeDocument/2006/relationships/slide" Target="slide42.xml"/><Relationship Id="rId19" Type="http://schemas.openxmlformats.org/officeDocument/2006/relationships/slide" Target="slide44.xml"/><Relationship Id="rId20" Type="http://schemas.openxmlformats.org/officeDocument/2006/relationships/slide" Target="slide46.xml"/><Relationship Id="rId2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7956-2AB5-43B9-BEF4-31C5D21469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"/>
          <p:cNvPicPr/>
          <p:nvPr/>
        </p:nvPicPr>
        <p:blipFill>
          <a:blip r:embed="rId4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69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469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467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14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5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3586E-D2BD-4369-A760-7B262273A8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3">
            <a:hlinkClick r:id="rId1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Comic Sans MS"/>
              </a:rPr>
              <a:t>What are cells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9D2DA-78B8-403D-9D84-90D3FFEC86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1905120" y="1828800"/>
            <a:ext cx="59436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8960" y="2514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omic Sans MS"/>
              </a:rPr>
              <a:t>Cell shape is determined by thi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A17D5-F95C-4B18-B9BC-34DC6B033A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5">
            <a:hlinkClick r:id="rId1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Comic Sans MS"/>
              </a:rPr>
              <a:t>What is cell function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B168C-C3DF-495B-A7CC-4AA1A93603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360" y="23619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omic Sans MS"/>
              </a:rPr>
              <a:t>The two basic types of cell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6FCDF-8F58-40D5-A2BC-CE133F4DE2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2742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omic Sans MS"/>
              </a:rPr>
              <a:t>What are prokaryotes and eukaryotes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5">
            <a:hlinkClick r:id="rId1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FC591-0F86-46C1-9EE3-449D01AF02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8960" y="3123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omic Sans MS"/>
              </a:rPr>
              <a:t>This limits the size of the cell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C264F-24CD-40D4-A49C-476C953098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360" y="34290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omic Sans MS"/>
              </a:rPr>
              <a:t>What is surface area-to-volume ratio?</a:t>
            </a:r>
            <a:br>
              <a:rPr sz="6000"/>
            </a:b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5">
            <a:hlinkClick r:id="rId1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D0C07-2ABE-44D4-AC2B-186281E05B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Comic Sans MS"/>
              </a:rPr>
              <a:t>The heirarchical organization found in multicellular organisms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3CE21-360D-46D5-9987-A6C1C77C12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8960" y="2895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What is cells make up tissues, tissues make up organs, organs make up organ systems, organ systems make up organism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5">
            <a:hlinkClick r:id="rId1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1218960"/>
            <a:ext cx="6858000" cy="510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omic Sans MS"/>
              </a:rPr>
              <a:t>English scientist who observed cork cell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000C0-73A1-44AA-81BA-B55087DB2A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086B3-5D9B-4136-B9B8-84183D0B04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19807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omic Sans MS"/>
              </a:rPr>
              <a:t>Cells &amp; Organizatio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867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68277-7EA0-414E-A668-D9786007FB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360" y="137160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omic Sans MS"/>
              </a:rPr>
              <a:t>Who was Robert Hooke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5">
            <a:hlinkClick r:id="rId1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CA586-C623-4EBB-93BD-A8C2B2055C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99036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German botanist who concluded all plants were composed of cells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F70B4-6C7F-4B2E-AC0D-FE64520E70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5">
            <a:hlinkClick r:id="rId1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1066320"/>
            <a:ext cx="7315200" cy="495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Comic Sans MS"/>
              </a:rPr>
              <a:t>Who was Matthias Schleiden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9E6B2-2549-44C1-A474-EF3A01267F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German zoologist who concluded all animals were composed of cell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696080" cy="518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Comic Sans MS"/>
              </a:rPr>
              <a:t>Who was Theodor Schwann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45298-B7C5-4BE1-9A5E-143EE24D57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5">
            <a:hlinkClick r:id="rId1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62E8C-B4E5-4B23-B375-A22C5F9782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omic Sans MS"/>
              </a:rPr>
              <a:t>Dutch trader who observed animalcule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7848720" cy="510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omic Sans MS"/>
              </a:rPr>
              <a:t>Who was Anton van Leeuwenhoek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79FA2-99DF-4680-B156-5ABA6C1E17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5">
            <a:hlinkClick r:id="rId1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249E9-5751-48C9-9180-BC32B8416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06668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ff"/>
                </a:solidFill>
                <a:latin typeface="Comic Sans MS"/>
              </a:rPr>
              <a:t>German physician who noted all cells come from other cells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omic Sans MS"/>
              </a:rPr>
              <a:t>Who was Rudolf Virchow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2FE9F-7AFE-4588-A90C-F167556C07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3">
            <a:hlinkClick r:id="rId1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66860-BBB5-4B4E-92E7-7ECEFA1CEE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Example of a common prokaryot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83900-2432-41C0-9C65-C212AF1561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9047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Comic Sans MS"/>
              </a:rPr>
              <a:t>Cell Histor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95399-15F3-4CAC-AEBB-938D428FAA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6">
            <a:hlinkClick r:id="rId1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What are bacteria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E5ED6-107C-4CCE-A3A5-1B0353CB15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21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Characteristic that groups all Prokaryotes togeth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F621F-2DD8-4401-BED3-068D3D49AC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5">
            <a:hlinkClick r:id="rId1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What is no nucleus &amp; no membrane-bound organelle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53F2F-5189-4BC4-831E-9FB8DF5098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Organisms made of one or more cells that have a ncleus and membrane-bound organell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27402-0A38-43FF-B8C4-2E336503C3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5">
            <a:hlinkClick r:id="rId1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omic Sans MS"/>
              </a:rPr>
              <a:t>What are eukaryotes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F1505-340C-47C7-8DED-4F00939D2B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WordArt 2"/>
          <p:cNvSpPr txBox="1"/>
          <p:nvPr/>
        </p:nvSpPr>
        <p:spPr>
          <a:xfrm>
            <a:off x="1066680" y="1219320"/>
            <a:ext cx="693432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5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689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3B762-CBA2-4032-A7BB-64F4DAC4F9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The cell’s outer boundar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9" descr=""/>
          <p:cNvPicPr/>
          <p:nvPr/>
        </p:nvPicPr>
        <p:blipFill>
          <a:blip r:embed="rId1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4320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37809-815B-4299-A4D1-AD17300A09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omic Sans MS"/>
              </a:rPr>
              <a:t>What is the plasma membrane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5">
            <a:hlinkClick r:id="rId1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14927-375E-4519-8EAE-3E44FEDAB7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omic Sans MS"/>
              </a:rPr>
              <a:t>Membrane bound structure that controls the functions of a eukaryotic cel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DD343-CEBD-497A-A11A-68E6973DAE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omic Sans MS"/>
              </a:rPr>
              <a:t>What is the nucleus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5">
            <a:hlinkClick r:id="rId1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DF782-EC6B-4908-96E4-DDB08E8569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Comic Sans MS"/>
              </a:rPr>
              <a:t>Cell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6121C-89BC-4D51-99B7-99D26E38F6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Three structures found in plant cells not found in animal cell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12205-16A0-40D5-9332-7903C05855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What are plastids, central vacuoles, and cell wall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5">
            <a:hlinkClick r:id="rId1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0CFF4-8A25-4191-B0B6-5A80AAE0D3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fffff"/>
                </a:solidFill>
                <a:latin typeface="Comic Sans MS"/>
              </a:rPr>
              <a:t>A large, fluid-filled organelle that stores water, enzymes, metabolic wastes, and other materials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86685-80C3-4124-881E-A05F93F2B3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omic Sans MS"/>
              </a:rPr>
              <a:t>What is a central vacuole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5">
            <a:hlinkClick r:id="rId1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7236B-76F9-4476-90FA-7AB0585759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212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fffff"/>
                </a:solidFill>
                <a:latin typeface="Comic Sans MS"/>
              </a:rPr>
              <a:t>These plastids use light energy to make carbohydrates from carbon dioxide and water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E0FE2-9AEE-4F28-BAA3-D6E6A0FAB8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omic Sans MS"/>
              </a:rPr>
              <a:t>What are chloroplasts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5">
            <a:hlinkClick r:id="rId1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6B3C1-5704-4FC2-BB3D-C0B7B01894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2120" y="24382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The rigid layer that lies outside the cell’s plasma membran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2CA2C-6AF3-43D3-A43A-C0E4BE305B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omic Sans MS"/>
              </a:rPr>
              <a:t>What is the cell wall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5">
            <a:hlinkClick r:id="rId1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AC11C-8207-48A8-A99C-62005AC847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6212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omic Sans MS"/>
              </a:rPr>
              <a:t>Process by which 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Comic Sans MS"/>
              </a:rPr>
              <a:t>plant cells take carbon dioxide gas from the air and convert it into sugar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2CBC-7ECC-4006-9D76-7D74907DFD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omic Sans MS"/>
              </a:rPr>
              <a:t>What is photosynthesis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5">
            <a:hlinkClick r:id="rId1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30F77-AD16-4824-8B49-CB0B87ADED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2895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Comic Sans MS"/>
              </a:rPr>
              <a:t>Plant Cells </a:t>
            </a:r>
            <a:br>
              <a:rPr sz="7200"/>
            </a:b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28B75-19E2-45D6-96C2-B6F18B46FE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This structure processes and packages protein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45736-10BC-4374-8FB2-E45EFB2DD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5">
            <a:hlinkClick r:id="rId1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omic Sans MS"/>
              </a:rPr>
              <a:t>What is the Golgi apparatus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D7342-136B-4E12-9E48-C55F620600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A network of thin tubes and filaments that crisscrosses the cytosol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3CA98-A5A9-43D8-81BA-BBD80D37D8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omic Sans MS"/>
              </a:rPr>
              <a:t>What is the cytoskeleton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5">
            <a:hlinkClick r:id="rId1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F060E-5723-4B3B-B814-7EC9790880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Small spherically shaped sacs surrounded by a single membrane and classified by their conte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2F987-1D67-4A7F-B0DD-081F6269D9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5">
            <a:hlinkClick r:id="rId1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omic Sans MS"/>
              </a:rPr>
              <a:t>What are vesicles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87493-8143-4856-B399-ABD071AD48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omic Sans MS"/>
              </a:rPr>
              <a:t>Tiny organelles that transfer energy from organic molecules to ATP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179AD-B069-4D84-93F4-4C35D0432A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omic Sans MS"/>
              </a:rPr>
              <a:t>What are mitochondria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5">
            <a:hlinkClick r:id="rId1"/>
          </p:cNvPr>
          <p:cNvSpPr/>
          <p:nvPr/>
        </p:nvSpPr>
        <p:spPr>
          <a:xfrm>
            <a:off x="6094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4231D-1FF8-49C7-BDE6-25F870B3C6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Small,roughly spherical organelles that are responsible for building protei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79FC7-DD6B-4FB5-A907-964AC6B8FE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5">
            <a:hlinkClick r:id="rId1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omic Sans MS"/>
              </a:rPr>
              <a:t>What are ribosomes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2DFAD-12AF-4959-87CE-FBB01CA8BB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2209320"/>
            <a:ext cx="678168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Comic Sans MS"/>
              </a:rPr>
              <a:t>Cell Organelle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4B275-BEE8-4892-BA95-543EA50DAD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omic Sans MS"/>
              </a:rPr>
              <a:t>This structure functions as an intracellular highwa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A8DA6-58D1-4632-BC81-CE2953BC57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43792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omic Sans MS"/>
              </a:rPr>
              <a:t>What is the endoplasmic reticulum (ER)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5">
            <a:hlinkClick r:id="rId1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497D7-C089-4EB7-A859-9A46D05F79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omic Sans MS"/>
              </a:rPr>
              <a:t>Holds contents of nucleus and similar in function to a cell’s cytoplas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65DC9-F499-434B-A489-43DE0966F5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omic Sans MS"/>
              </a:rPr>
              <a:t>What is the nucleoplasm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AutoShape 5">
            <a:hlinkClick r:id="rId1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1DE4C-1C8D-459E-AB2F-90FF64EF24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2120" y="22093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Allows only certain molecules to enter or leave the cell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53E3C-C2CE-49CE-AE3F-540C07AECC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omic Sans MS"/>
              </a:rPr>
              <a:t>What is the plasma membrane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5">
            <a:hlinkClick r:id="rId1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E52A9-7D5E-41C0-9294-9EFBED6844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DNA is concentrated here when making ribosomal RN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74C49-2DBA-4DB2-A8C1-DE6C90E383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omic Sans MS"/>
              </a:rPr>
              <a:t>What is the nucleolus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AutoShape 5">
            <a:hlinkClick r:id="rId1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AEDD7-E933-477B-A091-10E5B03630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omic Sans MS"/>
              </a:rPr>
              <a:t>Abundant organelle in the liver where it helps detoxify drugs and poison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E591B-9D07-4596-97D9-EFABA37C6E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omic Sans MS"/>
              </a:rPr>
              <a:t>What is smooth ER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5">
            <a:hlinkClick r:id="rId1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3C8FE-ED29-4983-A35E-76D24FACE3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Comic Sans MS"/>
              </a:rPr>
              <a:t>Function</a:t>
            </a:r>
            <a:r>
              <a:rPr b="1" lang="en-US" sz="80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7200"/>
            </a:b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4A8DF-FF91-4077-9E76-258F1BCF9A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Picture 4" descr=""/>
          <p:cNvPicPr/>
          <p:nvPr/>
        </p:nvPicPr>
        <p:blipFill>
          <a:blip r:embed="rId2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4671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FAC98-D505-47C6-81B5-C7CC5D572B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WordArt 2"/>
          <p:cNvSpPr txBox="1"/>
          <p:nvPr/>
        </p:nvSpPr>
        <p:spPr>
          <a:xfrm>
            <a:off x="2057400" y="1295280"/>
            <a:ext cx="4724280" cy="227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ina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Jeopard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533520" y="60958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7"/>
          <p:cNvSpPr/>
          <p:nvPr/>
        </p:nvSpPr>
        <p:spPr>
          <a:xfrm>
            <a:off x="1066680" y="4343400"/>
            <a:ext cx="7467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Hairlike structures that extend from the surface of the cell where they assist in mov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Picture 10" descr=""/>
          <p:cNvPicPr/>
          <p:nvPr/>
        </p:nvPicPr>
        <p:blipFill>
          <a:blip r:embed="rId1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34320" fill="hold"/>
                                        <p:tgtEl>
                                          <p:spTgt spid="2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4F35-D6F5-4288-A561-EEFD83E30E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AutoShape 11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2"/>
          <p:cNvSpPr/>
          <p:nvPr/>
        </p:nvSpPr>
        <p:spPr>
          <a:xfrm>
            <a:off x="1447920" y="2133720"/>
            <a:ext cx="66294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omic Sans MS"/>
              </a:rPr>
              <a:t>What are cilia and flagella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46F13-20AC-45ED-8732-DDFD815286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74"/>
          <p:cNvSpPr/>
          <p:nvPr/>
        </p:nvSpPr>
        <p:spPr>
          <a:xfrm>
            <a:off x="8839080" y="6553080"/>
            <a:ext cx="228600" cy="1526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75"/>
          <p:cNvSpPr/>
          <p:nvPr/>
        </p:nvSpPr>
        <p:spPr>
          <a:xfrm>
            <a:off x="0" y="3049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ells &amp; Organ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76"/>
          <p:cNvSpPr/>
          <p:nvPr/>
        </p:nvSpPr>
        <p:spPr>
          <a:xfrm>
            <a:off x="1523880" y="23076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e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77"/>
          <p:cNvSpPr/>
          <p:nvPr/>
        </p:nvSpPr>
        <p:spPr>
          <a:xfrm>
            <a:off x="3200400" y="304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8"/>
          <p:cNvSpPr/>
          <p:nvPr/>
        </p:nvSpPr>
        <p:spPr>
          <a:xfrm>
            <a:off x="4800600" y="194400"/>
            <a:ext cx="106668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lant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79"/>
          <p:cNvSpPr/>
          <p:nvPr/>
        </p:nvSpPr>
        <p:spPr>
          <a:xfrm>
            <a:off x="6172200" y="2286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ell Organel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80"/>
          <p:cNvSpPr/>
          <p:nvPr/>
        </p:nvSpPr>
        <p:spPr>
          <a:xfrm>
            <a:off x="7772400" y="380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1335F-829D-40C3-9B42-14A6A453FC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77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omic Sans MS"/>
              </a:rPr>
              <a:t>The smallest units of life in all living thing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lrobinson</cp:lastModifiedBy>
  <dcterms:modified xsi:type="dcterms:W3CDTF">2008-04-08T13:24:50Z</dcterms:modified>
  <cp:revision>75</cp:revision>
  <dc:subject/>
  <dc:title>No Slide Title</dc:title>
</cp:coreProperties>
</file>